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C1A9-8F0C-4A25-857D-ED7897FFCB0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73F7-2E7A-4D8B-B261-BF8514DD4DF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2D1E-5FBF-4C0B-B683-69D1810994E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단어카드A4반"/>
          <p:cNvPicPr/>
          <p:nvPr/>
        </p:nvPicPr>
        <p:blipFill>
          <a:blip r:embed="rId2"/>
          <a:stretch/>
        </p:blipFill>
        <p:spPr>
          <a:xfrm>
            <a:off x="-316080" y="0"/>
            <a:ext cx="7562880" cy="914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今天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5"/>
          <p:cNvSpPr/>
          <p:nvPr/>
        </p:nvSpPr>
        <p:spPr>
          <a:xfrm rot="10800000">
            <a:off x="32976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今天几月几号？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오늘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jīntiā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星期四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今天星期四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목요일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īngqīsì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星期六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明天星期六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토요일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īngqīliù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星期天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明天星期天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일요일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īngqītiā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生日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Text Box 5"/>
          <p:cNvSpPr/>
          <p:nvPr/>
        </p:nvSpPr>
        <p:spPr>
          <a:xfrm rot="10800000">
            <a:off x="0" y="5040720"/>
            <a:ext cx="6524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800" spc="-1" strike="noStrike">
                <a:solidFill>
                  <a:srgbClr val="000000"/>
                </a:solidFill>
                <a:latin typeface="굴림"/>
              </a:rPr>
              <a:t>明天是我的生日。</a:t>
            </a:r>
            <a:endParaRPr b="0" lang="en-US" sz="6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생일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hēngrì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来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来学校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오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lá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吧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来我家吧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하자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ba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一定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一定去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 Box 6"/>
          <p:cNvSpPr/>
          <p:nvPr/>
        </p:nvSpPr>
        <p:spPr>
          <a:xfrm rot="10800000">
            <a:off x="285480" y="6283800"/>
            <a:ext cx="6267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반드시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ídì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去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去学校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 Box 6"/>
          <p:cNvSpPr/>
          <p:nvPr/>
        </p:nvSpPr>
        <p:spPr>
          <a:xfrm rot="10800000">
            <a:off x="403200" y="6307200"/>
            <a:ext cx="626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굴림"/>
              </a:rPr>
              <a:t>가다</a:t>
            </a:r>
            <a:endParaRPr b="0" lang="en-US" sz="8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qù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昨天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昨天星期二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어제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uótiā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看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看电影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보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kà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月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5"/>
          <p:cNvSpPr/>
          <p:nvPr/>
        </p:nvSpPr>
        <p:spPr>
          <a:xfrm rot="10800000">
            <a:off x="32976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明天几月几号？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월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uè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0" spc="-1" strike="noStrike">
                <a:solidFill>
                  <a:srgbClr val="000000"/>
                </a:solidFill>
                <a:latin typeface="굴림"/>
              </a:rPr>
              <a:t>电影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我们看电影吧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영화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diànyǐ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回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们回家吧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돌아가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huí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祝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祝你生日快乐！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기원하다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빌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hù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0" spc="-1" strike="noStrike">
                <a:solidFill>
                  <a:srgbClr val="000000"/>
                </a:solidFill>
                <a:latin typeface="SimSun"/>
              </a:rPr>
              <a:t>快乐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生日快乐！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즐겁다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기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kuàilè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号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今天六月四号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일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hà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六月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今天六月十号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 Box 6"/>
          <p:cNvSpPr/>
          <p:nvPr/>
        </p:nvSpPr>
        <p:spPr>
          <a:xfrm rot="10800000">
            <a:off x="403200" y="6532560"/>
            <a:ext cx="626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0" lang="ko-KR" sz="5000" spc="-1" strike="noStrike">
                <a:solidFill>
                  <a:srgbClr val="000000"/>
                </a:solidFill>
                <a:latin typeface="굴림"/>
              </a:rPr>
              <a:t>월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Liùyuè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星期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今天星期几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요일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īngqī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星期五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今天星期五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금요일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īngqīwǔ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星期一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明天星期一 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월요일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īngqīyī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星期二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今天星期二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화요일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īngqī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’</a:t>
            </a: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èr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星期三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今天星期三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수요일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īngqīsā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0:55:21Z</dcterms:created>
  <dc:creator>Administrator</dc:creator>
  <dc:description/>
  <dc:language>en-US</dc:language>
  <cp:lastModifiedBy>Digital NEX</cp:lastModifiedBy>
  <dcterms:modified xsi:type="dcterms:W3CDTF">2012-05-17T03:55:52Z</dcterms:modified>
  <cp:revision>136</cp:revision>
  <dc:subject/>
  <dc:title>슬라이드 1</dc:title>
</cp:coreProperties>
</file>